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E715-4B74-4025-801E-A1ABA04F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2586-6E84-4129-89B8-616CF61E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C98D-3F50-4232-8A48-038C6827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977E-75F5-49C2-9146-BDADEDE7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0AC2-5FAF-4A12-880B-623EF859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66E-7666-4281-A9DE-46B95412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D991-CEF7-470C-A86C-8356EE5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B4F8-DB88-42BA-8403-51705B5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255-8E42-4237-9672-F24D58D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978F-9C5C-431E-84FF-97691EA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4B5E-D749-4138-A8FB-F520233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87BA-261F-4087-A1A5-58E9552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DD7-1A20-4732-ACEC-3572761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485-CC60-4F56-ABAC-4176275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85DB-251E-4C6D-8EEF-46967DB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0D55-63ED-4780-B00A-AC9485F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4E1D-2D56-44B3-A22D-3261115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9ED8-10A5-4B26-9EC3-65F4C073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08CC-D000-49EA-A810-B33258C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AA50-837E-43B4-9D1C-D0CE4D5B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B5BD-357A-427F-8301-0FF44F21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3139-6B93-41E7-8656-EE721EC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D918-4ECF-4F2B-A888-240B495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1B89-67CB-4295-B814-547B0BB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99F-28E4-4857-8B82-6A146971A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56B2-C96B-46A5-939F-2F64D68E9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Dezastre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 şi avarii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cauzate de calitatea barelor 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 s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rmelor metalice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Câte ceva de acest subiec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iile aerie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transport a energiei electr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t confectionate din conductoare de cupru, aluminiu cu miez de otel. Conductoarele din aluminiu cu miez de otel sunt folosite in special in cazul tensiunilor inal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i dezast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O furtună puternică a lăsat un orăşel fără curent electric, iar un cetăţean aflat în apropiere a suferit grave ars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5780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oleibuz avariat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ctivitatea de transport în comun din un oraş a fost sistată pe o perioada de câteva ore din cauza unei avarii la liniile de troleibu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exemplele prezentate de grupa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 a cauzelor care au determinat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vari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asiti solutii de eliminare a defectelor consta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ercetările efectuate în urma  avariei produse, s-au constatat multe neregului printre care şi calitatea inferioară a conductoarelor folo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Miezul de oţel, care trebuia să fie din sârmă OL42, care este un oţel cu rezistenţa la rupere de 42daN/mm</a:t>
            </a:r>
            <a:r>
              <a:rPr b="0" lang="ro-RO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era din OL37, care este un oţel cu rezistenţa la rupere mai mic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-ti exemple de cladiri care au suferit din cauza produselor din sarm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şi bare de oţ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zate la structura de rezist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nseu prabusit din caza calitatii sarmei utilizate la armatura de rezistent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2209680"/>
          <a:ext cx="4800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09680"/>
                    <a:ext cx="4800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uze identific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entru a face economie, firma de construcţii a achiziţionat sârmă şi bare de oţel de calitate inferioară, la care după accident s-a constat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s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ma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 de oţe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utilizata au fost identificate proprietati mecanice – rezistenta la intindere – sub limita admis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Barele de oţel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8mm STAS 654/2000 erau sub toleranta admisa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0,1mm, având diametrul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7,63m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derea sarcinii din carligul macaralei din cauza ruperii cablului din sarma utiliz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4038480" cy="28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04920" y="2286000"/>
          <a:ext cx="39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39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905120" y="2362320"/>
            <a:ext cx="838080" cy="761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uze identific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oţ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t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confectionarea unui toron din cele 12 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compuneau cablul de tra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ne a fost din s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 de calitate inferioara celei prev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te de standar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3505320"/>
            <a:ext cx="285768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289584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exemplele prezentate de grupa 1 si a cauzelor care au determinat dezastrele, gasiti solutii de eliminare a defectelor consta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racteristici sarm</a:t>
            </a:r>
            <a:r>
              <a:rPr b="0" lang="ro-RO" sz="3500" spc="-1" strike="noStrike">
                <a:solidFill>
                  <a:srgbClr val="ffffff"/>
                </a:solidFill>
                <a:latin typeface="Arial"/>
              </a:rPr>
              <a:t>ă şi bare din oţel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ârmele şi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le sau sarmele din otel utilizate la confectionarea armaturii metalice trebuie sa prezinte urmatoarele caracteristici tehnic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zitia chimica a otelulu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zistenta la rupere la tractiun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43200" y="3200400"/>
          <a:ext cx="3429000" cy="928800"/>
        </p:xfrm>
        <a:graphic>
          <a:graphicData uri="http://schemas.openxmlformats.org/drawingml/2006/table">
            <a:tbl>
              <a:tblPr/>
              <a:tblGrid>
                <a:gridCol w="687240"/>
                <a:gridCol w="684360"/>
                <a:gridCol w="685800"/>
                <a:gridCol w="684360"/>
                <a:gridCol w="687240"/>
              </a:tblGrid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362320" y="4648320"/>
          <a:ext cx="4038480" cy="1349280"/>
        </p:xfrm>
        <a:graphic>
          <a:graphicData uri="http://schemas.openxmlformats.org/drawingml/2006/table">
            <a:tbl>
              <a:tblPr/>
              <a:tblGrid>
                <a:gridCol w="906480"/>
                <a:gridCol w="709560"/>
                <a:gridCol w="806400"/>
                <a:gridCol w="808200"/>
                <a:gridCol w="807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-ti exempl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incidente  cauzate de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alitatea inferioară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l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transport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istribu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 a energiei elect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11:08Z</dcterms:created>
  <dc:creator>ws22</dc:creator>
  <dc:description/>
  <dc:language>en-US</dc:language>
  <cp:lastModifiedBy>Mocanu</cp:lastModifiedBy>
  <dcterms:modified xsi:type="dcterms:W3CDTF">2009-12-13T19:26:29Z</dcterms:modified>
  <cp:revision>4</cp:revision>
  <dc:subject/>
  <dc:title>Ce stiu despre calitate si defecte</dc:title>
</cp:coreProperties>
</file>